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90B-8534-489D-8913-712A7B0A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A29-5FF0-45C9-8F0F-2F2B4ED5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B8B-CC60-409A-ADBB-51565FFA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C32-D185-4D8F-9A2C-979A5308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E70-B2BF-48F5-83A1-17EE8B34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A44-4EEC-4A77-96C8-453B5A6F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34F-134C-48B2-89F1-AF6EF50D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344-ADF5-4390-AE83-D27621F3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551-E9CE-47D0-8F52-2BFB3C9F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048-986A-47D0-B7EF-3CE04A2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A13-1B79-43F2-86BE-399A5327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663-688C-4D8F-8B2F-628161C7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3B37-5B45-410A-BDDF-A1954D465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View_of_Toledo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.wikipedia.org/wiki/Las_Menina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intores esp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35320" y="54468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atative Rose- 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asso- 3 Mus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icasso_3musicians1921"/>
          <p:cNvPicPr/>
          <p:nvPr/>
        </p:nvPicPr>
        <p:blipFill>
          <a:blip r:embed="rId1"/>
          <a:stretch/>
        </p:blipFill>
        <p:spPr>
          <a:xfrm>
            <a:off x="2162160" y="1600200"/>
            <a:ext cx="481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905120" y="38088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lvador Dalí (1904-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en.wikipedia.org/wiki/Salvador_Dal%C3%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í- Les Elep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ali elephants"/>
          <p:cNvPicPr/>
          <p:nvPr/>
        </p:nvPicPr>
        <p:blipFill>
          <a:blip r:embed="rId1"/>
          <a:stretch/>
        </p:blipFill>
        <p:spPr>
          <a:xfrm>
            <a:off x="1371600" y="1046160"/>
            <a:ext cx="6400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360" y="152280"/>
            <a:ext cx="3925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 Greco (1541-161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ew of Tole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ew_of_Tole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ages.wikia.com/wikiart/es/images/f/ff/El_Greco_-_The_Burial_of_the_Count_of_Orgaz.JPG"/>
          <p:cNvPicPr/>
          <p:nvPr/>
        </p:nvPicPr>
        <p:blipFill>
          <a:blip r:embed="rId1"/>
          <a:stretch/>
        </p:blipFill>
        <p:spPr>
          <a:xfrm>
            <a:off x="1630440" y="0"/>
            <a:ext cx="5594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5120" y="152280"/>
            <a:ext cx="2507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Burial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Orga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án (1560-16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otan"/>
          <p:cNvPicPr/>
          <p:nvPr/>
        </p:nvPicPr>
        <p:blipFill>
          <a:blip r:embed="rId1"/>
          <a:stretch/>
        </p:blipFill>
        <p:spPr>
          <a:xfrm>
            <a:off x="1143000" y="1062000"/>
            <a:ext cx="67816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990720" y="2286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ego Velázquez (1599-166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Las_Men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shows a large room in the Madrid palace of King Philip IV of Spain, and presents several figures, most identifiable from the Spanish court, captured, according to some commentators, in a particular moment as if in a snapshot. 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young Infanta Margarita is surrounded by her entourag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Just behind them, Velázquez portrays himself working at a large canv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ázquez- An Old Woman Cooking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elazquez7"/>
          <p:cNvPicPr/>
          <p:nvPr/>
        </p:nvPicPr>
        <p:blipFill>
          <a:blip r:embed="rId1"/>
          <a:stretch/>
        </p:blipFill>
        <p:spPr>
          <a:xfrm>
            <a:off x="1371600" y="1392120"/>
            <a:ext cx="647712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cisco de Goy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746-1828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amily of Charles IV 1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rancisco_de_Goya_2"/>
          <p:cNvPicPr/>
          <p:nvPr/>
        </p:nvPicPr>
        <p:blipFill>
          <a:blip r:embed="rId1"/>
          <a:stretch/>
        </p:blipFill>
        <p:spPr>
          <a:xfrm>
            <a:off x="1143000" y="1219320"/>
            <a:ext cx="6748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371600" y="22860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ya- El tres de mayo 18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eweems.com/goya/3rd_of_ma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fusilmIENTOS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371600" y="289080"/>
            <a:ext cx="6858000" cy="24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Arial"/>
              </a:rPr>
              <a:t>Pablo Picasso (1881-197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Arial"/>
              </a:rPr>
              <a:t>Guérn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abcgallery.com/P/picasso/picas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5:50:17Z</dcterms:created>
  <dc:creator>jbarber</dc:creator>
  <dc:description/>
  <dc:language>en-US</dc:language>
  <cp:lastModifiedBy>Jessica Kaplan</cp:lastModifiedBy>
  <dcterms:modified xsi:type="dcterms:W3CDTF">2012-05-08T17:29:14Z</dcterms:modified>
  <cp:revision>19</cp:revision>
  <dc:subject/>
  <dc:title>Los pintores españoles</dc:title>
</cp:coreProperties>
</file>